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4.png" ContentType="image/png"/>
  <Override PartName="/ppt/media/image16.gif" ContentType="image/gif"/>
  <Override PartName="/ppt/media/image2.png" ContentType="image/png"/>
  <Override PartName="/ppt/media/image15.jpeg" ContentType="image/jpeg"/>
  <Override PartName="/ppt/media/image9.gif" ContentType="image/gif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442-06C9-43FF-A0AE-7FCE228C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39C-AD72-4B02-B0AB-0A27E832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240-BE9A-4EF2-BC92-960E8CBC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C3B-B4FB-46AA-85F3-89224725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4C22-A97A-4F34-A609-BEFE56B5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96B2-F5CF-4623-9B65-ABBABEA6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F4A0-3C14-4499-A1AE-7F5CE30B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3072-FD30-4176-A11F-C4F1D458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F704-9A6B-4D60-992D-2F8E34F0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FCCB-E2A4-4C3F-930D-53A9B57F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E4C4-541F-4763-82AA-7EC2C999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7B8-FE7A-4968-9F1B-BB45F0F3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9B41-36CC-4A6A-84D8-7092E7B3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0114-114E-41EA-8303-CD17F98A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63D1-F8EA-41C2-B1E9-6DA94CED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6655-1F67-4C51-93BC-88CE68CD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A141-FA53-4D0E-B394-E2A52FF9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4ED-9A59-4858-B276-9DDA6F5C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ED5-C05F-4B3C-84B3-B390A47A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741-1864-4A46-B2A9-19850984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5F6-86A7-4863-9392-C0A449B0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B25-D7FE-485C-989C-12C1ABAF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44C-B2BF-40F7-9766-E71A6EC0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939-1138-49AD-B7F3-A40DB806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6121-BB24-42BB-867C-5CD45C8C0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D242-5F1E-45D4-95D2-26691180D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Węglowodory      aromatyczne ( </a:t>
            </a:r>
            <a:r>
              <a:rPr b="1" lang="en-US" sz="4000" spc="-1" strike="noStrike">
                <a:solidFill>
                  <a:srgbClr val="c9c400"/>
                </a:solidFill>
                <a:latin typeface="Arial Black"/>
              </a:rPr>
              <a:t>ARENY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)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enz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812000" cy="438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948360" y="1844640"/>
            <a:ext cx="865440" cy="1295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843280" y="1579680"/>
            <a:ext cx="3313080" cy="2354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187280" y="1773360"/>
            <a:ext cx="865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940360" y="602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ofia Halini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15112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b7"/>
                </a:solidFill>
                <a:latin typeface="Arial Black"/>
              </a:rPr>
              <a:t>Węglowodory aromatyczne to związki o budowie pierścieniowej, które posiadają wiązanie zdelokalizowane. W przypadku benzenu wiązanie zdelokalizowane stanowi sekstet elektronowy. </a:t>
            </a:r>
            <a:br>
              <a:rPr sz="2000"/>
            </a:br>
            <a:r>
              <a:rPr b="0" lang="pl-PL" sz="2000" spc="-1" strike="noStrike">
                <a:solidFill>
                  <a:srgbClr val="ffffb7"/>
                </a:solidFill>
                <a:latin typeface="Arial Black"/>
              </a:rPr>
              <a:t>Budowa benzenu przez wiele lat była dla naukowców zagadką, ale dopiero propozycja chemika niemieckiego - Friedricha Kekulégo (XIX wiek) została uznana za najlepiej odpowiadającą obserwowanym faktom doświadczalnym. Przedstawiono ją na poniższym rysunku Struktura cząsteczki benzenu 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987640" y="3068640"/>
            <a:ext cx="274320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495680" cy="2457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780000" y="3429000"/>
            <a:ext cx="4495680" cy="3009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724360" y="83664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model kulkow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724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model</a:t>
            </a: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czaszow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1866960" cy="1619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03280" y="2101680"/>
            <a:ext cx="6953400" cy="4756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84480" y="71136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cc"/>
                </a:solidFill>
                <a:latin typeface="Arial"/>
              </a:rPr>
              <a:t>wiązanie zdelokalizow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reakcje benzenu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76360" y="40464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mowanie i chlorowanie benzenu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46656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761760" cy="495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87640" y="1268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1125360"/>
            <a:ext cx="93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B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59280" y="11253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+ HB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836640"/>
            <a:ext cx="100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B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6560" y="2014920"/>
            <a:ext cx="258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itrowanie benzenu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692360" y="2781360"/>
            <a:ext cx="466560" cy="457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195640" y="429264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3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3068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2565360"/>
            <a:ext cx="115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76720" y="2997360"/>
            <a:ext cx="180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995640" y="2852640"/>
            <a:ext cx="46692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V="1">
            <a:off x="4211640" y="2707920"/>
            <a:ext cx="289080" cy="144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492280"/>
            <a:ext cx="100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645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wodornienie benze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692360" y="4365720"/>
            <a:ext cx="46656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987640" y="4437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41497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814560" y="4473360"/>
            <a:ext cx="432000" cy="358920"/>
          </a:xfrm>
          <a:prstGeom prst="hexagon">
            <a:avLst>
              <a:gd name="adj" fmla="val 30090"/>
              <a:gd name="vf" fmla="val 115470"/>
            </a:avLst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5084640"/>
            <a:ext cx="41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lfonowanie benze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4437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,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692360" y="5589720"/>
            <a:ext cx="46656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924360" y="5661000"/>
            <a:ext cx="466560" cy="457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340000" y="5445000"/>
            <a:ext cx="115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5877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140360" y="5516280"/>
            <a:ext cx="2872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5300640"/>
            <a:ext cx="100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5734080"/>
            <a:ext cx="180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620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pl-PL" sz="4400" spc="-1" strike="noStrike">
                <a:solidFill>
                  <a:srgbClr val="f3cec3"/>
                </a:solidFill>
                <a:latin typeface="Arial Black"/>
              </a:rPr>
              <a:t>Otrzymywanie benzenu</a:t>
            </a:r>
            <a:br>
              <a:rPr sz="4400"/>
            </a:br>
            <a:br>
              <a:rPr sz="4400"/>
            </a:br>
            <a:r>
              <a:rPr b="1" lang="pl-PL" sz="2000" spc="-1" strike="noStrike">
                <a:solidFill>
                  <a:srgbClr val="ffff66"/>
                </a:solidFill>
                <a:latin typeface="Arial Black"/>
              </a:rPr>
              <a:t>ropa naftowa</a:t>
            </a:r>
            <a:br>
              <a:rPr sz="2000"/>
            </a:br>
            <a:r>
              <a:rPr b="1" lang="pl-PL" sz="20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pl-PL" sz="2000" spc="-1" strike="noStrike">
                <a:solidFill>
                  <a:srgbClr val="c4f1f2"/>
                </a:solidFill>
                <a:latin typeface="Arial Black"/>
              </a:rPr>
              <a:t>smoła węglowa</a:t>
            </a:r>
            <a:br>
              <a:rPr sz="2000"/>
            </a:br>
            <a:r>
              <a:rPr b="1" lang="pl-PL" sz="2000" spc="-1" strike="noStrike">
                <a:solidFill>
                  <a:srgbClr val="ffffb7"/>
                </a:solidFill>
                <a:latin typeface="Arial Black"/>
              </a:rPr>
              <a:t>                          </a:t>
            </a:r>
            <a:r>
              <a:rPr b="1" lang="pl-PL" sz="2000" spc="-1" strike="noStrike">
                <a:solidFill>
                  <a:srgbClr val="006600"/>
                </a:solidFill>
                <a:latin typeface="Arial Black"/>
              </a:rPr>
              <a:t>trimeryzacja acetylenu</a:t>
            </a:r>
            <a:br>
              <a:rPr sz="2000"/>
            </a:br>
            <a:r>
              <a:rPr b="1" lang="pl-PL" sz="2000" spc="-1" strike="noStrike">
                <a:solidFill>
                  <a:srgbClr val="ffffb7"/>
                </a:solidFill>
                <a:latin typeface="Arial Black"/>
              </a:rPr>
              <a:t>                                         </a:t>
            </a:r>
            <a:r>
              <a:rPr b="1" lang="pl-PL" sz="2000" spc="-1" strike="noStrike">
                <a:solidFill>
                  <a:srgbClr val="bff7c7"/>
                </a:solidFill>
                <a:latin typeface="Arial Black"/>
              </a:rPr>
              <a:t>cyklizacja heksanu, aromatyzacj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042560" y="2565360"/>
            <a:ext cx="360360" cy="64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59280" y="2781360"/>
            <a:ext cx="0" cy="863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2708280"/>
            <a:ext cx="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48360" y="2781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56360" cy="2352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00000" y="404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yklizacja n –heksanu do cykloheksanu i jego aromatyzac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3657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rimeryzacja acetyle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84360" y="5013360"/>
            <a:ext cx="29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19640" y="522936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5013360"/>
            <a:ext cx="115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b7"/>
                </a:solidFill>
                <a:latin typeface="Arial Black"/>
              </a:rPr>
              <a:t>benzen - składnik paliw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1619280" cy="952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402240" y="2181240"/>
            <a:ext cx="957240" cy="1467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917960" y="4951440"/>
            <a:ext cx="392760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1:56:53Z</dcterms:created>
  <dc:creator>administrator</dc:creator>
  <dc:description/>
  <dc:language>en-US</dc:language>
  <cp:lastModifiedBy>administrator</cp:lastModifiedBy>
  <dcterms:modified xsi:type="dcterms:W3CDTF">2002-11-22T11:03:37Z</dcterms:modified>
  <cp:revision>22</cp:revision>
  <dc:subject/>
  <dc:title> Węglowodory aromatyczne</dc:title>
</cp:coreProperties>
</file>